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82E-BA5D-4D56-A150-CE713DA0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D7D-A7DD-4C02-A9FE-0C4E03A8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520-15F2-4B9A-B568-085386FA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D92-C5D2-4E58-8511-1825E7FE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91A-9E7B-4444-B9A5-E054F4C2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947-75B7-45D0-B937-A9889E13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754-A568-4A35-A42A-2B1C0466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16F-882C-42EE-AEEB-6D93DA9E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B42-AB28-4DBF-B244-35E5C0F0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22E-3995-4489-B5F6-F0B70A69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3B4-D1E5-4F9E-B001-AF7D90E2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064-10FA-40AD-A94D-7EEF3BD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F34E-0DBC-4A9A-A012-B96B9AB33F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39;%B7%BB%B7%E7%F3%DD&amp;in=31380&amp;cl=2&amp;lm=-1&amp;pn=40&amp;rn=1&amp;di=8120240655&amp;ln=2000&amp;fr=&amp;fmq=&amp;ic=&amp;s=&amp;se=&amp;sme=0&amp;tab=&amp;width=&amp;height=&amp;face=&amp;is=&amp;istype=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esson 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2924280"/>
            <a:ext cx="67294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9999"/>
                </a:solidFill>
                <a:latin typeface="Arial"/>
              </a:rPr>
              <a:t>Toy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6960" y="274320"/>
            <a:ext cx="444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2.Let’s do it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7200720" cy="345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341360"/>
            <a:ext cx="29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on Saturday, Jen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141300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I read a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What do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n Satu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4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3.Letters and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628640"/>
            <a:ext cx="165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557360"/>
            <a:ext cx="208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c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lu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1557360"/>
            <a:ext cx="165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e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1557360"/>
            <a:ext cx="172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3645000"/>
            <a:ext cx="1434960" cy="172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2360" y="3860640"/>
            <a:ext cx="1800000" cy="217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708360" y="386064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1584360" cy="216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451640" y="3860640"/>
            <a:ext cx="158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042920" y="1052640"/>
            <a:ext cx="720108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Good-bye!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0920" y="4508640"/>
            <a:ext cx="7848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99"/>
                </a:solidFill>
                <a:latin typeface="Arial"/>
              </a:rPr>
              <a:t>play with toy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4968720" cy="381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1197000"/>
            <a:ext cx="275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cc"/>
                </a:solidFill>
                <a:latin typeface="Arial"/>
              </a:rPr>
              <a:t>toy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4076640"/>
            <a:ext cx="8640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33"/>
                </a:solidFill>
                <a:latin typeface="Arial"/>
              </a:rPr>
              <a:t>catch with a b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26028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67480" y="901800"/>
            <a:ext cx="228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85840" y="4525560"/>
            <a:ext cx="7122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fly a ki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rcRect l="0" t="0" r="0" b="10665"/>
          <a:stretch/>
        </p:blipFill>
        <p:spPr>
          <a:xfrm>
            <a:off x="4427640" y="189000"/>
            <a:ext cx="4465440" cy="302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105264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Arial"/>
              </a:rPr>
              <a:t>ki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you do on Satur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7488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Answer my 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79280" y="3573360"/>
            <a:ext cx="849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2.What do Li Ming, Jenny and Danny do first?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494172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3.What do Li Ming, Jenny and Danny do l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708280"/>
            <a:ext cx="568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What day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4076280"/>
            <a:ext cx="81518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On Saturday, I play with my friend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40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115640" y="4652640"/>
            <a:ext cx="6985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Arial"/>
              </a:rPr>
              <a:t>We fly ki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69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4292280"/>
            <a:ext cx="7561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9900"/>
                </a:solidFill>
                <a:latin typeface="Arial"/>
              </a:rPr>
              <a:t>We play catch with a ball.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680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We read books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Jenny play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with her toys.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aturday is fun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3203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2:34:15Z</dcterms:created>
  <dc:creator/>
  <dc:description/>
  <dc:language>en-US</dc:language>
  <cp:lastModifiedBy/>
  <dcterms:modified xsi:type="dcterms:W3CDTF">2018-08-17T09:16:38Z</dcterms:modified>
  <cp:revision>16</cp:revision>
  <dc:subject/>
  <dc:title/>
</cp:coreProperties>
</file>